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778C-81C8-4BF3-AF52-DE13848946E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fter opening video and discussion about the future of assessment. Talk about that David and I had been on a two conference about one method of introducing portfolios and student lead conferences into sch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4040-19A5-4E71-998D-FE9C02B0DAD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 will briefly explain the 3 types of conferences but won’t go into detail because we are not up to this y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DA26-3A40-4B4A-9C34-0CD21B60D68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66A3-C0B5-45A6-A731-0C0A25B3DEE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arted with the reason for the inclusion of portfolios and student lead interviews. Open up to discussion for any other reasons that might a purpose for do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2F3C-123C-44AE-987F-B70A8767054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then went on to talk about the things that need to be considered when going down thi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7F4B-DA24-49E7-BBB6-C8C4622F769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ere are examples of areas that we could focus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034F-3262-40C1-B9B9-A1E445F02BC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ere is an example of Paul explaining about his portfolio to get us th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C276-6641-4C55-8102-A3D8576B837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re we need to h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3B87-9371-4C80-A95B-0A1E03C18EF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then talked about how to keep the process going and to keep it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234-37FE-417B-B40C-D9F404DEE4D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(Put into grps) Jigsaw the activity. They all agree up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BC8B-1AB4-4568-A197-17D24AA663C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182-3655-449E-86F4-D0527E16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48E-FDEF-4CC6-9E5E-06F06250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0F2-5928-4F85-A7A5-8A2B1CFA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B30-9693-4645-BEC1-D195D418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62F-7FE0-45C3-9578-69E239E3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C6A-BC78-48F3-A7D2-DC6EC05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1F0-E377-437D-9FF8-7F31711A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F67-87F0-414F-94BC-3AE22A37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599-D912-4C85-9F81-DB3800D7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964-2344-48C1-A305-40B2744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B63-394C-4605-B80D-0290ED63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305-A69A-41EF-9BDE-A4249213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EBA0-82CC-4580-B408-2D5463BEE1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SSESSING THE WHOLE CHI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Creating Powerful Portfolios and Student Led Con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071720" y="1571760"/>
            <a:ext cx="7072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tudent lead confere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ormal- Suggested for 5 &amp; 6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rena Style- Second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xpo- Suggested for P-4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ere is it go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357200" y="1143000"/>
            <a:ext cx="60008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vite teachers to observe a student led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are formal feed back with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are a video of a student led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mote what we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are resources to improve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ak about your experiences with colleagues, honestly, openly and passion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valuate 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357200" y="2000160"/>
            <a:ext cx="628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d you set out to achieve through developing a portfolio and a student lead confer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oes the portfolio tell people about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o you like most about your portfol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challenge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has the portfolio helpe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could you make it more effective if you were to do it ag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surprised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has the portfolio helped you learn about yoursel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Purpose of a student led interview using a portfolio to drive it is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143000" y="1857240"/>
            <a:ext cx="721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ift from the learning focus from the teacher to shared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gage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ive the children the ability to recognise the next steps in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uilds independence and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dents want their parents to 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cuses on how well the student has been do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tention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derstanding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tive use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571680" y="1285920"/>
            <a:ext cx="778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Questions to ask about Portfol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oes a authentic student portfolio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is its purpose at Glenferrie Primary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they have a student voice i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re should we st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will we use? Folders, display books, scrap 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re will they be housed? Chair bags, central contai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materials will be needed? Paper, card, photocopying (colour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st of the materials, does it come from the book list or a curriculum bud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Questions to ask about Student lead Intervie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do we use these portfolios  to drive these interview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do we do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do we prepare our children for these confer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re will the interview be h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are the constraints? Timing,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pecific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785880" y="785880"/>
            <a:ext cx="7643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will the conference and portfolio target? Below are some ide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yself as  a lear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arning Styl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urriculum goals and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ubrics related to topic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lanations of feelings related to particular curriculum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sults and reflections of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flections of work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mpact attitude has had o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eas for celeb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eas needing strengthening and strategies to assist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yself as a social be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flections on do you want to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cial goals and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operative group work samples and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eas for celeb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iendship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sonalit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mpact friendship has had on my ability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 example of where we may head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2214720" y="2214720"/>
          <a:ext cx="4570200" cy="3427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214720"/>
                    <a:ext cx="457020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etting Star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each children how to self evaluate the skills that they are learning. Start with one dimension and make the learning explic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llect explicit examples of the children explaining the learning process in one dimension. Annodoctal notes or on fil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gree as a staff what we want a portfolio to look lik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1867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alk with students what is lear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is the purpose of our portfoli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ould be in our portfoli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ould work in our portfolio look l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will be work on our portfoli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vide a process for the student lead interviews that is clear to the student, parent and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8568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ortfolio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l of the work in the portfolios will be the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ontent of the portfolio reflects their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will be discussing with you their reasons for including or excluding items throughout th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are not doing it for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will be using the content to drive their own student lead conference with their par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reakdown of a portfolio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nt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urriculum Goal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cial Goal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arning styles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gree upon what you are going to share with other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3:20:45Z</dcterms:created>
  <dc:creator>Education</dc:creator>
  <dc:description/>
  <dc:language>en-US</dc:language>
  <cp:lastModifiedBy>Education</cp:lastModifiedBy>
  <dcterms:modified xsi:type="dcterms:W3CDTF">2009-06-01T02:32:01Z</dcterms:modified>
  <cp:revision>14</cp:revision>
  <dc:subject/>
  <dc:title>ASSESSING THE WHOLE CHILD</dc:title>
</cp:coreProperties>
</file>